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26637"/>
        <c:axId val="75827649"/>
      </c:barChart>
      <c:catAx>
        <c:axId val="77026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27649"/>
        <c:crosses val="autoZero"/>
        <c:auto val="1"/>
        <c:lblAlgn val="ctr"/>
        <c:lblOffset val="100"/>
        <c:noMultiLvlLbl val="0"/>
      </c:catAx>
      <c:valAx>
        <c:axId val="75827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26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C84-4BEC-417A-825A-74227521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5EC9-F0E9-4E7E-A3AF-F5FC24FB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FDD-6E92-43A8-A950-4FC89BBB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BF4-0CB2-4927-B270-26ED0C28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C5C-94EA-43BE-A871-61A5252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4B8-33EB-42C7-98C2-878B58F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0A1-179E-4042-9370-F2136B04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1F4-1C7B-4872-84EE-141D542E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D1C-30D7-4AD2-9B5A-7D91DC37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6A5-3F76-4C72-A77B-C230498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677-8C04-44C4-AAAC-9FC38703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286-2C45-4AB6-A82A-CE5099D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459FF-694D-42EF-9D64-DEC9F0945E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