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30659"/>
        <c:axId val="66155160"/>
      </c:barChart>
      <c:catAx>
        <c:axId val="47930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5160"/>
        <c:crosses val="autoZero"/>
        <c:auto val="1"/>
        <c:lblAlgn val="ctr"/>
        <c:lblOffset val="100"/>
        <c:noMultiLvlLbl val="0"/>
      </c:catAx>
      <c:valAx>
        <c:axId val="66155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0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1F2-A12C-4884-AA80-4E7B889C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ADB-43D7-4857-B935-B1FE1028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1EA-2206-40F1-AB19-751636F1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4BF-BBE5-4255-B897-94B37E29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3B4-FF71-4703-B5F2-1EAB0D3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494-57C7-41C4-A82C-DF48CC53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BC1-A161-44DC-82BD-0AF0CC1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0F5-8028-4D78-ABA0-BC494E8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9C-9911-409C-813F-4802819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66D-5C60-42BE-9729-96457D0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A7E-0E8E-481F-8907-3EA3825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847-3B50-46ED-A8B4-D0AE9B9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A937-84E3-4084-8A60-B1AB147CD0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